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716C-A759-4D51-8ED8-0D35D3AA4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83D1-9190-4D38-88DB-D0695960D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E7F3-2B45-4506-8317-8001FB71C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5E47-E30D-42C3-83E5-E3F703DF9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6B9C9-6F18-4FEC-887B-ABB566694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0C65E-A2E8-4504-BE09-A8225F4BF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D14B6-F02E-4F06-9A33-0BF104819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AC89F-D6B9-47E1-A4E7-B351F3F75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5EED0-E814-485A-9F7F-AC02F66A4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9D872-8C2C-4E92-B5B5-522688442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8F54E-6A13-4FAC-B57E-A3ADC332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CA29-F101-4D3D-A301-32CAA60D6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1F454-DD57-4C2B-8E66-60668E3B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EFF10-4297-4CFD-A365-9F44B86A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12DAF-2990-4E5D-8201-18774E9CB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E4E1C-7232-4F38-987A-9E60BFA26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03C70-E6EA-4F90-BBE9-996580788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E8ED-A5E9-41B7-B773-57BDC92BA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DB48-495A-48E1-8100-5724AE2FE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A2CF-2DC3-48A2-BD55-1F628B38C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2DF4-8599-4261-95B0-F83F3B9D0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7D4A-2052-46FB-AFCA-D5912AB7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55E8-C311-4954-9F26-42D5C678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36EE-2708-49EB-BB0A-C8394837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58EBB-679F-417B-A04A-63F3AB4EDA4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A22DE-A71C-4355-9EFA-DF1AC8767E1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380880"/>
            <a:ext cx="7792920" cy="111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The Scientific Method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0" name="Picture 3" descr="chemistryx"/>
          <p:cNvPicPr/>
          <p:nvPr/>
        </p:nvPicPr>
        <p:blipFill>
          <a:blip r:embed="rId1"/>
          <a:stretch/>
        </p:blipFill>
        <p:spPr>
          <a:xfrm>
            <a:off x="2590920" y="2133720"/>
            <a:ext cx="3809880" cy="41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88416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Scientific 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04920" y="1905120"/>
            <a:ext cx="6705360" cy="61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tate Conclus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You state wheth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r prediction was confirmed or not and try to explain your result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lude a statement that accepts or rejects the hypothesi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recommendations for further study and possible improvements to the procedu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Picture 4" descr="scentist"/>
          <p:cNvPicPr/>
          <p:nvPr/>
        </p:nvPicPr>
        <p:blipFill>
          <a:blip r:embed="rId1"/>
          <a:stretch/>
        </p:blipFill>
        <p:spPr>
          <a:xfrm>
            <a:off x="6934320" y="533520"/>
            <a:ext cx="1714320" cy="11206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bigmouth"/>
          <p:cNvPicPr/>
          <p:nvPr/>
        </p:nvPicPr>
        <p:blipFill>
          <a:blip r:embed="rId2"/>
          <a:stretch/>
        </p:blipFill>
        <p:spPr>
          <a:xfrm>
            <a:off x="6915240" y="2666880"/>
            <a:ext cx="20764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“Science”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62120" y="1828800"/>
            <a:ext cx="8192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ience is a particular way of understanding the natural world. It allows us to connect the past with the present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ask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’s there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es it work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id it come to be this way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88416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Scientific 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838080" y="1828800"/>
            <a:ext cx="78044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cientific method is the only scientifi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y accepted to back up a theory 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.  This is the method on which al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arch projects should be based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cientific Method is used by researcher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upport or disprove a theor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ience involves continuous observations, questions, multiple hypotheses, and more observa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Picture 6" descr="scentist"/>
          <p:cNvPicPr/>
          <p:nvPr/>
        </p:nvPicPr>
        <p:blipFill>
          <a:blip r:embed="rId1"/>
          <a:stretch/>
        </p:blipFill>
        <p:spPr>
          <a:xfrm>
            <a:off x="6934320" y="533520"/>
            <a:ext cx="171432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88416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Scientific 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685800" y="1752480"/>
            <a:ext cx="8242200" cy="65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Scientific Method involves 6 steps: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Observatio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Question/Purpos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Method/Experimen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Result/Analyze the Dat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Picture 4" descr="scentist"/>
          <p:cNvPicPr/>
          <p:nvPr/>
        </p:nvPicPr>
        <p:blipFill>
          <a:blip r:embed="rId1"/>
          <a:stretch/>
        </p:blipFill>
        <p:spPr>
          <a:xfrm>
            <a:off x="6934320" y="533520"/>
            <a:ext cx="1714320" cy="1120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chem01"/>
          <p:cNvPicPr/>
          <p:nvPr/>
        </p:nvPicPr>
        <p:blipFill>
          <a:blip r:embed="rId2"/>
          <a:stretch/>
        </p:blipFill>
        <p:spPr>
          <a:xfrm>
            <a:off x="1828800" y="56386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chem01"/>
          <p:cNvPicPr/>
          <p:nvPr/>
        </p:nvPicPr>
        <p:blipFill>
          <a:blip r:embed="rId3"/>
          <a:stretch/>
        </p:blipFill>
        <p:spPr>
          <a:xfrm>
            <a:off x="1828800" y="49528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chem01"/>
          <p:cNvPicPr/>
          <p:nvPr/>
        </p:nvPicPr>
        <p:blipFill>
          <a:blip r:embed="rId4"/>
          <a:stretch/>
        </p:blipFill>
        <p:spPr>
          <a:xfrm>
            <a:off x="1828800" y="43434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chem01"/>
          <p:cNvPicPr/>
          <p:nvPr/>
        </p:nvPicPr>
        <p:blipFill>
          <a:blip r:embed="rId5"/>
          <a:stretch/>
        </p:blipFill>
        <p:spPr>
          <a:xfrm>
            <a:off x="1828800" y="36576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chem01"/>
          <p:cNvPicPr/>
          <p:nvPr/>
        </p:nvPicPr>
        <p:blipFill>
          <a:blip r:embed="rId6"/>
          <a:stretch/>
        </p:blipFill>
        <p:spPr>
          <a:xfrm>
            <a:off x="1828800" y="29718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chem01"/>
          <p:cNvPicPr/>
          <p:nvPr/>
        </p:nvPicPr>
        <p:blipFill>
          <a:blip r:embed="rId7"/>
          <a:stretch/>
        </p:blipFill>
        <p:spPr>
          <a:xfrm>
            <a:off x="1828800" y="23623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88416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Scientific 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80880" y="2286000"/>
            <a:ext cx="74678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ask a question about what you observ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 a question or problem that can be solved through experiment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the problem or question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Picture 4" descr="scentist"/>
          <p:cNvPicPr/>
          <p:nvPr/>
        </p:nvPicPr>
        <p:blipFill>
          <a:blip r:embed="rId1"/>
          <a:stretch/>
        </p:blipFill>
        <p:spPr>
          <a:xfrm>
            <a:off x="6934320" y="533520"/>
            <a:ext cx="1714320" cy="1120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AMCONFUS"/>
          <p:cNvPicPr/>
          <p:nvPr/>
        </p:nvPicPr>
        <p:blipFill>
          <a:blip r:embed="rId2"/>
          <a:stretch/>
        </p:blipFill>
        <p:spPr>
          <a:xfrm>
            <a:off x="6934320" y="21337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88416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Scientific 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80880" y="1828800"/>
            <a:ext cx="7543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Hypothesi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You predict wha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think the answer to your problem or question might b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hypothesis must be testable. So evidence gathered can either support or disprove the hypothesi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Example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If </a:t>
            </a:r>
            <a:r>
              <a:rPr b="0" lang="en-US" sz="3200" spc="-1" strike="noStrike" u="sng">
                <a:solidFill>
                  <a:srgbClr val="00b050"/>
                </a:solidFill>
                <a:uFillTx/>
                <a:latin typeface="Tahoma"/>
              </a:rPr>
              <a:t>soil temperatures</a:t>
            </a:r>
            <a:r>
              <a:rPr b="0" lang="en-US" sz="3200" spc="-1" strike="noStrike">
                <a:solidFill>
                  <a:srgbClr val="00b05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rise, then </a:t>
            </a:r>
            <a:r>
              <a:rPr b="0" lang="en-US" sz="3200" spc="-1" strike="noStrike" u="sng">
                <a:solidFill>
                  <a:srgbClr val="00b050"/>
                </a:solidFill>
                <a:uFillTx/>
                <a:latin typeface="Tahoma"/>
              </a:rPr>
              <a:t>plant growth</a:t>
            </a:r>
            <a:r>
              <a:rPr b="0" lang="en-US" sz="3200" spc="-1" strike="noStrike">
                <a:solidFill>
                  <a:srgbClr val="00b05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will increa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Picture 4" descr="scentist"/>
          <p:cNvPicPr/>
          <p:nvPr/>
        </p:nvPicPr>
        <p:blipFill>
          <a:blip r:embed="rId1"/>
          <a:stretch/>
        </p:blipFill>
        <p:spPr>
          <a:xfrm>
            <a:off x="6934320" y="533520"/>
            <a:ext cx="1714320" cy="11206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AMIDEA"/>
          <p:cNvPicPr/>
          <p:nvPr/>
        </p:nvPicPr>
        <p:blipFill>
          <a:blip r:embed="rId2"/>
          <a:stretch/>
        </p:blipFill>
        <p:spPr>
          <a:xfrm>
            <a:off x="7543800" y="2057400"/>
            <a:ext cx="129528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88416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Scientific 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380880" y="1828800"/>
            <a:ext cx="85345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Experi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- Develop and follow 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roced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 Include a detailed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material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li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figure out a way to test whether the hypothesis is correct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outcome must be measurable (quantifiable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ord and analyze data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Picture 4" descr="scentist"/>
          <p:cNvPicPr/>
          <p:nvPr/>
        </p:nvPicPr>
        <p:blipFill>
          <a:blip r:embed="rId1"/>
          <a:stretch/>
        </p:blipFill>
        <p:spPr>
          <a:xfrm>
            <a:off x="6934320" y="533520"/>
            <a:ext cx="1714320" cy="11206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AMPROBLE"/>
          <p:cNvPicPr/>
          <p:nvPr/>
        </p:nvPicPr>
        <p:blipFill>
          <a:blip r:embed="rId2"/>
          <a:stretch/>
        </p:blipFill>
        <p:spPr>
          <a:xfrm>
            <a:off x="6400800" y="3967200"/>
            <a:ext cx="2484360" cy="24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792920" cy="144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ctors to consider for Experi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304920" y="2043000"/>
            <a:ext cx="8839080" cy="46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ontrolled experiment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periment in which only one variable is manipulat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Variable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factor that can be changed. (Weight, Length, Number of …,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ndependent vs. Dependent variable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variable that is changed to test a hypothesis is the independ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variable changed in response to the change in the independent variable is known as the dependent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88416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Scientific 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228600" y="1981080"/>
            <a:ext cx="76201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ollect and Analyze Results</a:t>
            </a:r>
            <a:r>
              <a:rPr b="0" lang="en-US" sz="3200" spc="-1" strike="noStrike">
                <a:solidFill>
                  <a:srgbClr val="0033cc"/>
                </a:solidFill>
                <a:latin typeface="Tahoma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facts, figures and other evidence gathered through observa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ify the procedure if need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rm the results by retest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lude tables, graphs, and photograph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Picture 4" descr="scentist"/>
          <p:cNvPicPr/>
          <p:nvPr/>
        </p:nvPicPr>
        <p:blipFill>
          <a:blip r:embed="rId1"/>
          <a:stretch/>
        </p:blipFill>
        <p:spPr>
          <a:xfrm>
            <a:off x="6934320" y="533520"/>
            <a:ext cx="1714320" cy="1120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AMDISAST"/>
          <p:cNvPicPr/>
          <p:nvPr/>
        </p:nvPicPr>
        <p:blipFill>
          <a:blip r:embed="rId2"/>
          <a:stretch/>
        </p:blipFill>
        <p:spPr>
          <a:xfrm>
            <a:off x="5807160" y="2819520"/>
            <a:ext cx="309888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00:42:23Z</dcterms:created>
  <dc:creator>SSC</dc:creator>
  <dc:description/>
  <dc:language>en-US</dc:language>
  <cp:lastModifiedBy>jcameron</cp:lastModifiedBy>
  <dcterms:modified xsi:type="dcterms:W3CDTF">2012-09-25T20:35:10Z</dcterms:modified>
  <cp:revision>22</cp:revision>
  <dc:subject/>
  <dc:title>The Scientific Method</dc:title>
</cp:coreProperties>
</file>